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DBB-8AC5-4620-A87C-ABD44A58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9F9-9526-45ED-B09C-08F8E53C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249-A0CE-4D0D-88E6-90A9CBB9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52D-A12F-4348-9EED-CFE5F708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409-CE07-4F18-96A0-4ED2C241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0B2-5E44-4526-9BD4-915933F4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D82-BC88-4D2A-BEDC-931F3FF9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82E-66D3-4060-AD99-2E796A1F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243-76D9-4F63-86A5-07F892CA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7F2-49B6-4AA5-8E35-E089E23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365-6BD0-4039-A6A7-FF82775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1D7-938A-4532-AD28-50CDD62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5F-FB2F-45A8-AE25-7DF64CB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39A-357E-4FEE-A6F1-8890F18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5C9-0CFE-40B8-874B-CF33935C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464-D774-4F3F-9095-889ED45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AE7-F741-4EB3-9BA1-1D1E07CC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A39-E2A0-4E8B-A706-2F70E7F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961-0B55-4D27-BE02-59991379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03280" y="4762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627280" y="4762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403280" y="24922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24000" y="2492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706920" y="476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714920" y="476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484360" y="24922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AutoShape 12"/>
          <p:cNvCxnSpPr>
            <a:stCxn id="48" idx="2"/>
            <a:endCxn id="51" idx="0"/>
          </p:cNvCxnSpPr>
          <p:nvPr/>
        </p:nvCxnSpPr>
        <p:spPr>
          <a:xfrm rot="5400000">
            <a:off x="720000" y="1413000"/>
            <a:ext cx="1079640" cy="1080000"/>
          </a:xfrm>
          <a:prstGeom prst="bentConnector3">
            <a:avLst>
              <a:gd name="adj1" fmla="val 514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AutoShape 13"/>
          <p:cNvCxnSpPr>
            <a:stCxn id="48" idx="2"/>
            <a:endCxn id="50" idx="0"/>
          </p:cNvCxnSpPr>
          <p:nvPr/>
        </p:nvCxnSpPr>
        <p:spPr>
          <a:xfrm>
            <a:off x="1799640" y="1413000"/>
            <a:ext cx="360" cy="107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AutoShape 14"/>
          <p:cNvCxnSpPr>
            <a:stCxn id="48" idx="2"/>
            <a:endCxn id="54" idx="0"/>
          </p:cNvCxnSpPr>
          <p:nvPr/>
        </p:nvCxnSpPr>
        <p:spPr>
          <a:xfrm flipH="1" rot="16200000">
            <a:off x="1800360" y="1411920"/>
            <a:ext cx="1079640" cy="1081440"/>
          </a:xfrm>
          <a:prstGeom prst="bentConnector3">
            <a:avLst>
              <a:gd name="adj1" fmla="val 514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AutoShape 15"/>
          <p:cNvCxnSpPr>
            <a:stCxn id="48" idx="0"/>
            <a:endCxn id="49" idx="0"/>
          </p:cNvCxnSpPr>
          <p:nvPr/>
        </p:nvCxnSpPr>
        <p:spPr>
          <a:xfrm rot="16200000">
            <a:off x="2411640" y="-135720"/>
            <a:ext cx="360" cy="1224360"/>
          </a:xfrm>
          <a:prstGeom prst="bentConnector3">
            <a:avLst>
              <a:gd name="adj1" fmla="val -657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AutoShape 16"/>
          <p:cNvCxnSpPr>
            <a:stCxn id="48" idx="0"/>
            <a:endCxn id="52" idx="0"/>
          </p:cNvCxnSpPr>
          <p:nvPr/>
        </p:nvCxnSpPr>
        <p:spPr>
          <a:xfrm rot="16200000">
            <a:off x="2951280" y="-675360"/>
            <a:ext cx="360" cy="2303640"/>
          </a:xfrm>
          <a:prstGeom prst="bentConnector3">
            <a:avLst>
              <a:gd name="adj1" fmla="val -657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AutoShape 17"/>
          <p:cNvCxnSpPr>
            <a:stCxn id="48" idx="0"/>
            <a:endCxn id="53" idx="0"/>
          </p:cNvCxnSpPr>
          <p:nvPr/>
        </p:nvCxnSpPr>
        <p:spPr>
          <a:xfrm rot="16200000">
            <a:off x="3455280" y="-1179360"/>
            <a:ext cx="360" cy="3311640"/>
          </a:xfrm>
          <a:prstGeom prst="bentConnector3">
            <a:avLst>
              <a:gd name="adj1" fmla="val -657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AutoShape 18"/>
          <p:cNvSpPr/>
          <p:nvPr/>
        </p:nvSpPr>
        <p:spPr>
          <a:xfrm>
            <a:off x="5003640" y="37162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6012000" y="3716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6946920" y="3716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7883640" y="37162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>
            <a:off x="6659640" y="566100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6588000" y="566100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6516720" y="566100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/>
          <p:cNvSpPr/>
          <p:nvPr/>
        </p:nvSpPr>
        <p:spPr>
          <a:xfrm>
            <a:off x="6443640" y="566100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30"/>
          <p:cNvCxnSpPr>
            <a:stCxn id="61" idx="2"/>
            <a:endCxn id="68" idx="0"/>
          </p:cNvCxnSpPr>
          <p:nvPr/>
        </p:nvCxnSpPr>
        <p:spPr>
          <a:xfrm flipH="1" rot="16200000">
            <a:off x="5616000" y="4437000"/>
            <a:ext cx="1008360" cy="1440360"/>
          </a:xfrm>
          <a:prstGeom prst="bentConnector3">
            <a:avLst>
              <a:gd name="adj1" fmla="val 513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31"/>
          <p:cNvCxnSpPr>
            <a:stCxn id="62" idx="2"/>
            <a:endCxn id="68" idx="0"/>
          </p:cNvCxnSpPr>
          <p:nvPr/>
        </p:nvCxnSpPr>
        <p:spPr>
          <a:xfrm flipH="1" rot="16200000">
            <a:off x="6120000" y="4941000"/>
            <a:ext cx="1008360" cy="432360"/>
          </a:xfrm>
          <a:prstGeom prst="bentConnector3">
            <a:avLst>
              <a:gd name="adj1" fmla="val 504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AutoShape 32"/>
          <p:cNvCxnSpPr>
            <a:stCxn id="63" idx="2"/>
            <a:endCxn id="68" idx="0"/>
          </p:cNvCxnSpPr>
          <p:nvPr/>
        </p:nvCxnSpPr>
        <p:spPr>
          <a:xfrm rot="5400000">
            <a:off x="6587280" y="4905720"/>
            <a:ext cx="1008360" cy="503280"/>
          </a:xfrm>
          <a:prstGeom prst="bentConnector3">
            <a:avLst>
              <a:gd name="adj1" fmla="val 504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33"/>
          <p:cNvCxnSpPr>
            <a:stCxn id="64" idx="2"/>
            <a:endCxn id="68" idx="0"/>
          </p:cNvCxnSpPr>
          <p:nvPr/>
        </p:nvCxnSpPr>
        <p:spPr>
          <a:xfrm rot="5400000">
            <a:off x="7055640" y="4437360"/>
            <a:ext cx="1008360" cy="1440000"/>
          </a:xfrm>
          <a:prstGeom prst="bentConnector3">
            <a:avLst>
              <a:gd name="adj1" fmla="val 5042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AutoShape 34"/>
          <p:cNvSpPr/>
          <p:nvPr/>
        </p:nvSpPr>
        <p:spPr>
          <a:xfrm>
            <a:off x="1403280" y="414972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35"/>
          <p:cNvCxnSpPr>
            <a:stCxn id="50" idx="2"/>
            <a:endCxn id="73" idx="0"/>
          </p:cNvCxnSpPr>
          <p:nvPr/>
        </p:nvCxnSpPr>
        <p:spPr>
          <a:xfrm>
            <a:off x="1799640" y="3429000"/>
            <a:ext cx="360" cy="72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404640"/>
            <a:ext cx="4032360" cy="64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Query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755640" y="429408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755640" y="263700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755640" y="227664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55640" y="191772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755640" y="558972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755640" y="4941720"/>
            <a:ext cx="3456000" cy="64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QueryResult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755640" y="1268280"/>
            <a:ext cx="3456000" cy="64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QueryResult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55640" y="3933720"/>
            <a:ext cx="3456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QueryResult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755640" y="3284640"/>
            <a:ext cx="3456000" cy="647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QueryResult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4"/>
          <p:cNvSpPr/>
          <p:nvPr/>
        </p:nvSpPr>
        <p:spPr>
          <a:xfrm>
            <a:off x="250920" y="1843200"/>
            <a:ext cx="223344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250920" y="1411200"/>
            <a:ext cx="223344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250920" y="981000"/>
            <a:ext cx="223344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50920" y="262080"/>
            <a:ext cx="2232000" cy="64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ttribut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3780000" y="1268280"/>
            <a:ext cx="223344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780000" y="549360"/>
            <a:ext cx="2232000" cy="64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ttribut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8"/>
          <p:cNvSpPr/>
          <p:nvPr/>
        </p:nvSpPr>
        <p:spPr>
          <a:xfrm>
            <a:off x="179280" y="476280"/>
            <a:ext cx="2160720" cy="29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.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179280" y="1197000"/>
            <a:ext cx="2160720" cy="431640"/>
          </a:xfrm>
          <a:prstGeom prst="rect">
            <a:avLst/>
          </a:prstGeom>
          <a:solidFill>
            <a:srgbClr val="b7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9280" y="1628640"/>
            <a:ext cx="2160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79280" y="2060640"/>
            <a:ext cx="216072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179280" y="2492280"/>
            <a:ext cx="216072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2556000" y="1268280"/>
            <a:ext cx="287280" cy="2665440"/>
          </a:xfrm>
          <a:custGeom>
            <a:avLst/>
            <a:gdLst>
              <a:gd name="textAreaLeft" fmla="*/ 0 w 287280"/>
              <a:gd name="textAreaRight" fmla="*/ 103680 w 287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912"/>
                </a:lnTo>
                <a:cubicBezTo>
                  <a:pt x="10800" y="4812"/>
                  <a:pt x="16200" y="5712"/>
                  <a:pt x="21600" y="5712"/>
                </a:cubicBezTo>
                <a:cubicBezTo>
                  <a:pt x="16200" y="5712"/>
                  <a:pt x="10800" y="6612"/>
                  <a:pt x="10800" y="75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203640" y="1484280"/>
            <a:ext cx="2160360" cy="100800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6732720" y="981000"/>
            <a:ext cx="1368360" cy="201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8"/>
          <p:cNvSpPr/>
          <p:nvPr/>
        </p:nvSpPr>
        <p:spPr>
          <a:xfrm>
            <a:off x="5580000" y="1628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179280" y="3573360"/>
            <a:ext cx="2160720" cy="863640"/>
          </a:xfrm>
          <a:prstGeom prst="foldedCorner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8f8f8"/>
                </a:solidFill>
                <a:latin typeface="Arial"/>
              </a:rPr>
              <a:t>File.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79280" y="476280"/>
            <a:ext cx="2160720" cy="29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.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79280" y="1197000"/>
            <a:ext cx="2160720" cy="431640"/>
          </a:xfrm>
          <a:prstGeom prst="rect">
            <a:avLst/>
          </a:prstGeom>
          <a:solidFill>
            <a:srgbClr val="b7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79280" y="1628640"/>
            <a:ext cx="2160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79280" y="2060640"/>
            <a:ext cx="216072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79280" y="2492280"/>
            <a:ext cx="216072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348000" y="1484280"/>
            <a:ext cx="2160720" cy="100800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6732720" y="981000"/>
            <a:ext cx="1368360" cy="201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 rot="10800000">
            <a:off x="5580000" y="1628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2"/>
          <p:cNvCxnSpPr>
            <a:stCxn id="198" idx="1"/>
            <a:endCxn id="197" idx="3"/>
          </p:cNvCxnSpPr>
          <p:nvPr/>
        </p:nvCxnSpPr>
        <p:spPr>
          <a:xfrm flipH="1">
            <a:off x="2340000" y="1989000"/>
            <a:ext cx="993960" cy="72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AutoShape 13"/>
          <p:cNvCxnSpPr>
            <a:stCxn id="198" idx="1"/>
            <a:endCxn id="196" idx="3"/>
          </p:cNvCxnSpPr>
          <p:nvPr/>
        </p:nvCxnSpPr>
        <p:spPr>
          <a:xfrm flipH="1">
            <a:off x="2340000" y="1988640"/>
            <a:ext cx="993960" cy="28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AutoShape 14"/>
          <p:cNvCxnSpPr>
            <a:endCxn id="195" idx="3"/>
          </p:cNvCxnSpPr>
          <p:nvPr/>
        </p:nvCxnSpPr>
        <p:spPr>
          <a:xfrm flipH="1" flipV="1">
            <a:off x="2340000" y="1844280"/>
            <a:ext cx="99396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15"/>
          <p:cNvCxnSpPr>
            <a:stCxn id="198" idx="1"/>
            <a:endCxn id="194" idx="3"/>
          </p:cNvCxnSpPr>
          <p:nvPr/>
        </p:nvCxnSpPr>
        <p:spPr>
          <a:xfrm flipH="1" flipV="1">
            <a:off x="2340000" y="1413000"/>
            <a:ext cx="993960" cy="57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AutoShape 16"/>
          <p:cNvSpPr/>
          <p:nvPr/>
        </p:nvSpPr>
        <p:spPr>
          <a:xfrm>
            <a:off x="179280" y="3573360"/>
            <a:ext cx="2160720" cy="863640"/>
          </a:xfrm>
          <a:prstGeom prst="foldedCorner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8f8f8"/>
                </a:solidFill>
                <a:latin typeface="Arial"/>
              </a:rPr>
              <a:t>File.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17"/>
          <p:cNvCxnSpPr>
            <a:stCxn id="198" idx="2"/>
            <a:endCxn id="205" idx="3"/>
          </p:cNvCxnSpPr>
          <p:nvPr/>
        </p:nvCxnSpPr>
        <p:spPr>
          <a:xfrm flipH="1">
            <a:off x="2339280" y="2506320"/>
            <a:ext cx="2089800" cy="149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17"/>
          <p:cNvSpPr/>
          <p:nvPr/>
        </p:nvSpPr>
        <p:spPr>
          <a:xfrm>
            <a:off x="1042920" y="189000"/>
            <a:ext cx="6697800" cy="6192720"/>
          </a:xfrm>
          <a:prstGeom prst="rightArrow">
            <a:avLst>
              <a:gd name="adj1" fmla="val 82778"/>
              <a:gd name="adj2" fmla="val 68679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4000" y="477720"/>
            <a:ext cx="2160360" cy="505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178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24000" y="4797360"/>
            <a:ext cx="2735280" cy="64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Database.imd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24000" y="1341360"/>
            <a:ext cx="2160360" cy="505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24000" y="2349360"/>
            <a:ext cx="2160360" cy="505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1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24000" y="5661000"/>
            <a:ext cx="2736720" cy="504720"/>
          </a:xfrm>
          <a:prstGeom prst="rect">
            <a:avLst/>
          </a:prstGeom>
          <a:gradFill rotWithShape="0">
            <a:gsLst>
              <a:gs pos="0">
                <a:srgbClr val="53deff"/>
              </a:gs>
              <a:gs pos="100000">
                <a:srgbClr val="3fa8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324000" y="3357720"/>
            <a:ext cx="2160360" cy="93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6659640" y="2492280"/>
            <a:ext cx="2160360" cy="1513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279a2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 &amp;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ag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imp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2"/>
          <p:cNvSpPr/>
          <p:nvPr/>
        </p:nvSpPr>
        <p:spPr>
          <a:xfrm>
            <a:off x="34920" y="0"/>
            <a:ext cx="8858160" cy="6742080"/>
          </a:xfrm>
          <a:prstGeom prst="rect">
            <a:avLst/>
          </a:prstGeom>
          <a:solidFill>
            <a:srgbClr val="20202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249120" y="233280"/>
            <a:ext cx="2430720" cy="19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495360" y="476280"/>
            <a:ext cx="1941480" cy="1458720"/>
          </a:xfrm>
          <a:prstGeom prst="rect">
            <a:avLst/>
          </a:prstGeom>
          <a:solidFill>
            <a:srgbClr val="f2f2f2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"/>
          <p:cNvSpPr/>
          <p:nvPr/>
        </p:nvSpPr>
        <p:spPr>
          <a:xfrm>
            <a:off x="426960" y="409680"/>
            <a:ext cx="135000" cy="1332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426960" y="1138320"/>
            <a:ext cx="135000" cy="1350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426960" y="1868400"/>
            <a:ext cx="135000" cy="13356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397160" y="1860480"/>
            <a:ext cx="134640" cy="13356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2367000" y="1852560"/>
            <a:ext cx="133200" cy="13356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2367000" y="1138320"/>
            <a:ext cx="133200" cy="1350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/>
          <p:cNvSpPr/>
          <p:nvPr/>
        </p:nvSpPr>
        <p:spPr>
          <a:xfrm>
            <a:off x="2367000" y="409680"/>
            <a:ext cx="133200" cy="1332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1397160" y="409680"/>
            <a:ext cx="134640" cy="1332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1397160" y="1138320"/>
            <a:ext cx="134640" cy="135000"/>
          </a:xfrm>
          <a:prstGeom prst="ellipse">
            <a:avLst/>
          </a:prstGeom>
          <a:solidFill>
            <a:srgbClr val="bbe0e3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77920" y="3436920"/>
            <a:ext cx="1790640" cy="143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262080" y="3436920"/>
            <a:ext cx="1431720" cy="107460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2436840" y="3436920"/>
            <a:ext cx="1790640" cy="1432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2436840" y="3794040"/>
            <a:ext cx="1430280" cy="107496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4595760" y="3436920"/>
            <a:ext cx="1790640" cy="143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4956120" y="3436920"/>
            <a:ext cx="1430280" cy="107460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6754680" y="3436920"/>
            <a:ext cx="1791000" cy="1432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7116840" y="3794040"/>
            <a:ext cx="1431720" cy="107496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279360" y="5097600"/>
            <a:ext cx="1790640" cy="1431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457200" y="5097600"/>
            <a:ext cx="1430280" cy="107316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2438280" y="5097600"/>
            <a:ext cx="1791000" cy="1431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2616120" y="5454720"/>
            <a:ext cx="1430280" cy="107460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4597560" y="5097600"/>
            <a:ext cx="1790640" cy="1431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4595760" y="5275440"/>
            <a:ext cx="1430280" cy="107460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6757920" y="5097600"/>
            <a:ext cx="1790640" cy="1431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7116840" y="5275440"/>
            <a:ext cx="1431720" cy="107460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0"/>
          <p:cNvSpPr/>
          <p:nvPr/>
        </p:nvSpPr>
        <p:spPr>
          <a:xfrm>
            <a:off x="3481560" y="1654200"/>
            <a:ext cx="1790640" cy="1432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1"/>
          <p:cNvSpPr/>
          <p:nvPr/>
        </p:nvSpPr>
        <p:spPr>
          <a:xfrm>
            <a:off x="3660840" y="1825560"/>
            <a:ext cx="1430280" cy="1073160"/>
          </a:xfrm>
          <a:prstGeom prst="rect">
            <a:avLst/>
          </a:prstGeom>
          <a:solidFill>
            <a:srgbClr val="d9d9d9">
              <a:alpha val="80000"/>
            </a:srgbClr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042920" y="2349360"/>
            <a:ext cx="3529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187280" y="2492280"/>
            <a:ext cx="32418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lock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5076720" y="1700280"/>
            <a:ext cx="1436760" cy="609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ar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5076720" y="2997360"/>
            <a:ext cx="1436760" cy="609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Mar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2565360"/>
            <a:ext cx="309708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916360" y="3573360"/>
            <a:ext cx="1436400" cy="2872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1763640" y="1773360"/>
            <a:ext cx="1436760" cy="4316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1012680" y="2324160"/>
            <a:ext cx="71640" cy="71280"/>
          </a:xfrm>
          <a:prstGeom prst="ellipse">
            <a:avLst/>
          </a:prstGeom>
          <a:gradFill rotWithShape="0">
            <a:gsLst>
              <a:gs pos="0">
                <a:srgbClr val="dddddd">
                  <a:alpha val="43137"/>
                </a:srgbClr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971640" y="549360"/>
            <a:ext cx="5040360" cy="43196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1268280"/>
            <a:ext cx="3600360" cy="288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71640" y="549360"/>
            <a:ext cx="115236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859280" y="549360"/>
            <a:ext cx="115272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916360" y="549360"/>
            <a:ext cx="115236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71640" y="2492280"/>
            <a:ext cx="115236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859280" y="2492280"/>
            <a:ext cx="11527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71640" y="4437000"/>
            <a:ext cx="115236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4859280" y="4437000"/>
            <a:ext cx="11527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916360" y="4437000"/>
            <a:ext cx="115236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916360" y="2492280"/>
            <a:ext cx="115236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900000" y="115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061440" y="115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295240" y="1159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30072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630072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630072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71640" y="549360"/>
            <a:ext cx="5040360" cy="43196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92360" y="1268280"/>
            <a:ext cx="3600360" cy="288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859280" y="549360"/>
            <a:ext cx="1152720" cy="4319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132000" y="0"/>
            <a:ext cx="244800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492360" y="358920"/>
            <a:ext cx="180036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492360" y="358920"/>
            <a:ext cx="863640" cy="136836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50920" y="0"/>
            <a:ext cx="244800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11280" y="358920"/>
            <a:ext cx="180000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11280" y="358920"/>
            <a:ext cx="1800000" cy="21744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2233440"/>
          <a:ext cx="2449440" cy="974880"/>
        </p:xfrm>
        <a:graphic>
          <a:graphicData uri="http://schemas.openxmlformats.org/drawingml/2006/table">
            <a:tbl>
              <a:tblPr/>
              <a:tblGrid>
                <a:gridCol w="1441440"/>
                <a:gridCol w="1008000"/>
              </a:tblGrid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(Au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132000" y="2276640"/>
          <a:ext cx="2449800" cy="974520"/>
        </p:xfrm>
        <a:graphic>
          <a:graphicData uri="http://schemas.openxmlformats.org/drawingml/2006/table">
            <a:tbl>
              <a:tblPr/>
              <a:tblGrid>
                <a:gridCol w="1441440"/>
                <a:gridCol w="1008360"/>
              </a:tblGrid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(Au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144"/>
          <p:cNvSpPr/>
          <p:nvPr/>
        </p:nvSpPr>
        <p:spPr>
          <a:xfrm>
            <a:off x="6012000" y="0"/>
            <a:ext cx="244764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5"/>
          <p:cNvSpPr/>
          <p:nvPr/>
        </p:nvSpPr>
        <p:spPr>
          <a:xfrm>
            <a:off x="6372360" y="358920"/>
            <a:ext cx="180000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6"/>
          <p:cNvSpPr/>
          <p:nvPr/>
        </p:nvSpPr>
        <p:spPr>
          <a:xfrm>
            <a:off x="6372360" y="360360"/>
            <a:ext cx="1800000" cy="136836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12000" y="2276640"/>
          <a:ext cx="2449440" cy="974520"/>
        </p:xfrm>
        <a:graphic>
          <a:graphicData uri="http://schemas.openxmlformats.org/drawingml/2006/table">
            <a:tbl>
              <a:tblPr/>
              <a:tblGrid>
                <a:gridCol w="1441440"/>
                <a:gridCol w="1008000"/>
              </a:tblGrid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168"/>
          <p:cNvSpPr/>
          <p:nvPr/>
        </p:nvSpPr>
        <p:spPr>
          <a:xfrm>
            <a:off x="250920" y="3429000"/>
            <a:ext cx="244800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9"/>
          <p:cNvSpPr/>
          <p:nvPr/>
        </p:nvSpPr>
        <p:spPr>
          <a:xfrm>
            <a:off x="611280" y="3787920"/>
            <a:ext cx="180000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0"/>
          <p:cNvSpPr/>
          <p:nvPr/>
        </p:nvSpPr>
        <p:spPr>
          <a:xfrm>
            <a:off x="900000" y="3789360"/>
            <a:ext cx="1224000" cy="28728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5688000"/>
          <a:ext cx="2449440" cy="974880"/>
        </p:xfrm>
        <a:graphic>
          <a:graphicData uri="http://schemas.openxmlformats.org/drawingml/2006/table">
            <a:tbl>
              <a:tblPr/>
              <a:tblGrid>
                <a:gridCol w="1441440"/>
                <a:gridCol w="1008000"/>
              </a:tblGrid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88"/>
          <p:cNvSpPr/>
          <p:nvPr/>
        </p:nvSpPr>
        <p:spPr>
          <a:xfrm>
            <a:off x="3132000" y="3429000"/>
            <a:ext cx="244800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9"/>
          <p:cNvSpPr/>
          <p:nvPr/>
        </p:nvSpPr>
        <p:spPr>
          <a:xfrm>
            <a:off x="3492360" y="3787920"/>
            <a:ext cx="180036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0"/>
          <p:cNvSpPr/>
          <p:nvPr/>
        </p:nvSpPr>
        <p:spPr>
          <a:xfrm>
            <a:off x="4500720" y="4724280"/>
            <a:ext cx="792000" cy="43200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Over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32000" y="5688000"/>
          <a:ext cx="2449800" cy="984240"/>
        </p:xfrm>
        <a:graphic>
          <a:graphicData uri="http://schemas.openxmlformats.org/drawingml/2006/table">
            <a:tbl>
              <a:tblPr/>
              <a:tblGrid>
                <a:gridCol w="1441440"/>
                <a:gridCol w="1008360"/>
              </a:tblGrid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(Au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208"/>
          <p:cNvSpPr/>
          <p:nvPr/>
        </p:nvSpPr>
        <p:spPr>
          <a:xfrm>
            <a:off x="6012000" y="3429000"/>
            <a:ext cx="2447640" cy="215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9"/>
          <p:cNvSpPr/>
          <p:nvPr/>
        </p:nvSpPr>
        <p:spPr>
          <a:xfrm>
            <a:off x="6372360" y="3787920"/>
            <a:ext cx="1800000" cy="1368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0"/>
          <p:cNvSpPr/>
          <p:nvPr/>
        </p:nvSpPr>
        <p:spPr>
          <a:xfrm>
            <a:off x="7020000" y="4221000"/>
            <a:ext cx="503280" cy="432000"/>
          </a:xfrm>
          <a:prstGeom prst="rect">
            <a:avLst/>
          </a:prstGeom>
          <a:solidFill>
            <a:srgbClr val="ffcc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12000" y="5688000"/>
          <a:ext cx="2449440" cy="984240"/>
        </p:xfrm>
        <a:graphic>
          <a:graphicData uri="http://schemas.openxmlformats.org/drawingml/2006/table">
            <a:tbl>
              <a:tblPr/>
              <a:tblGrid>
                <a:gridCol w="1441440"/>
                <a:gridCol w="1008000"/>
              </a:tblGrid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Al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4"/>
          <p:cNvSpPr/>
          <p:nvPr/>
        </p:nvSpPr>
        <p:spPr>
          <a:xfrm>
            <a:off x="250920" y="3789360"/>
            <a:ext cx="5472000" cy="19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50920" y="620640"/>
            <a:ext cx="5472000" cy="295272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403280" y="1125360"/>
            <a:ext cx="4175280" cy="22323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546200" y="1701720"/>
            <a:ext cx="3889440" cy="1584360"/>
          </a:xfrm>
          <a:prstGeom prst="rect">
            <a:avLst/>
          </a:prstGeom>
          <a:solidFill>
            <a:srgbClr val="ffe9ab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c IP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95280" y="2276640"/>
            <a:ext cx="792000" cy="9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692360" y="2278080"/>
            <a:ext cx="79200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100000">
                <a:srgbClr val="484848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627280" y="22780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100000">
                <a:srgbClr val="8787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564000" y="2276640"/>
            <a:ext cx="792000" cy="9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ff99"/>
              </a:gs>
              <a:gs pos="100000">
                <a:srgbClr val="9ac1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4498920" y="227808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24000" y="4292640"/>
            <a:ext cx="936360" cy="1366920"/>
          </a:xfrm>
          <a:prstGeom prst="rect">
            <a:avLst/>
          </a:prstGeom>
          <a:solidFill>
            <a:srgbClr val="f8f8f8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95280" y="4653000"/>
            <a:ext cx="792000" cy="936720"/>
          </a:xfrm>
          <a:prstGeom prst="foldedCorner">
            <a:avLst>
              <a:gd name="adj" fmla="val 125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332000" y="4292640"/>
            <a:ext cx="936360" cy="1366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403280" y="465300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171b8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565440" y="4724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2411280" y="4292640"/>
            <a:ext cx="936720" cy="1366920"/>
          </a:xfrm>
          <a:prstGeom prst="rect">
            <a:avLst/>
          </a:prstGeom>
          <a:solidFill>
            <a:srgbClr val="fdadad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484360" y="4653000"/>
            <a:ext cx="79236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100000">
                <a:srgbClr val="aa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00000" y="1341360"/>
            <a:ext cx="1943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00000" y="1773360"/>
            <a:ext cx="19432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2205000"/>
            <a:ext cx="1943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00000" y="249228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0" y="549360"/>
            <a:ext cx="1943280" cy="3585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572000" y="981000"/>
            <a:ext cx="1943280" cy="358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4572000" y="1413000"/>
            <a:ext cx="1943280" cy="3585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572000" y="1844640"/>
            <a:ext cx="1943280" cy="358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1"/>
          <p:cNvCxnSpPr>
            <a:stCxn id="143" idx="3"/>
            <a:endCxn id="147" idx="1"/>
          </p:cNvCxnSpPr>
          <p:nvPr/>
        </p:nvCxnSpPr>
        <p:spPr>
          <a:xfrm flipV="1">
            <a:off x="2843280" y="727920"/>
            <a:ext cx="1729440" cy="793080"/>
          </a:xfrm>
          <a:prstGeom prst="bentConnector3">
            <a:avLst>
              <a:gd name="adj1" fmla="val 499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3"/>
          <p:cNvSpPr/>
          <p:nvPr/>
        </p:nvSpPr>
        <p:spPr>
          <a:xfrm>
            <a:off x="971640" y="836640"/>
            <a:ext cx="4752720" cy="3716280"/>
          </a:xfrm>
          <a:prstGeom prst="rightArrow">
            <a:avLst>
              <a:gd name="adj1" fmla="val 50019"/>
              <a:gd name="adj2" fmla="val 5450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68360" y="2062080"/>
            <a:ext cx="1155600" cy="1366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724360" y="1052640"/>
            <a:ext cx="2880000" cy="352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724360" y="1052640"/>
            <a:ext cx="288144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68360" y="1989000"/>
            <a:ext cx="2735280" cy="1440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atch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ad HTML Template from dis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lace variables with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468360" y="3789360"/>
            <a:ext cx="1155600" cy="57636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14"/>
          <p:cNvCxnSpPr>
            <a:stCxn id="153" idx="2"/>
            <a:endCxn id="157" idx="0"/>
          </p:cNvCxnSpPr>
          <p:nvPr/>
        </p:nvCxnSpPr>
        <p:spPr>
          <a:xfrm>
            <a:off x="1045800" y="342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611280" y="333360"/>
            <a:ext cx="3456000" cy="58323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55640" y="476280"/>
            <a:ext cx="3168720" cy="23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IMHTML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012000" y="1052640"/>
            <a:ext cx="2160360" cy="280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at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755640" y="2960640"/>
            <a:ext cx="316872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755640" y="4005360"/>
            <a:ext cx="3168720" cy="9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ff99"/>
              </a:gs>
              <a:gs pos="100000">
                <a:srgbClr val="9ac1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755640" y="5084640"/>
            <a:ext cx="3168720" cy="93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27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8f8f8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924360" y="2708280"/>
            <a:ext cx="2087640" cy="1441440"/>
          </a:xfrm>
          <a:prstGeom prst="leftRightArrow">
            <a:avLst>
              <a:gd name="adj1" fmla="val 50000"/>
              <a:gd name="adj2" fmla="val 2883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Method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3924360" y="1268280"/>
            <a:ext cx="2087640" cy="792360"/>
          </a:xfrm>
          <a:prstGeom prst="leftArrow">
            <a:avLst>
              <a:gd name="adj1" fmla="val 50000"/>
              <a:gd name="adj2" fmla="val 6586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21:29Z</dcterms:created>
  <dc:creator>Mario M. Westphal</dc:creator>
  <dc:description/>
  <dc:language>en-US</dc:language>
  <cp:lastModifiedBy>Mario</cp:lastModifiedBy>
  <dcterms:modified xsi:type="dcterms:W3CDTF">2016-05-10T19:30:56Z</dcterms:modified>
  <cp:revision>35</cp:revision>
  <dc:subject/>
  <dc:title>Slide 1</dc:title>
</cp:coreProperties>
</file>